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B9CE-350B-434B-B5B2-259C46E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BE34-F461-43A1-9027-4194047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F2D7-69FF-46E1-BB85-A9005C74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EFFD-936D-4DA3-94B7-BA5F9EC7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F0F1-2316-479B-BC75-AA0EB9F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A9C7-EF69-4705-B20B-0C1EDA6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73E-ADEF-47FC-89AC-0254039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CB56-07D8-4C7B-B7C8-1800CD6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E13-3CF7-4015-B0B0-206AF2B1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25A9-C34F-4C8F-8985-C242E44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4B5B-67B9-4FBC-9B31-2E43074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77F3-CF22-4585-B0D6-A04AB19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05D-7ED0-4722-83D1-90D65D7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74D-ACA8-4A4A-A3C7-631FFF2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792-1E22-4802-9180-978FFB1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C631-5AF9-4658-A141-A02391E6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E1AC-19FE-4710-A9E4-4C8B6342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F7D5-6317-4A1D-979E-C670E736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F41B-151F-4F51-A41E-5FE5457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753F-FAF5-43DD-8723-81568124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0D0B-E58D-4955-80CF-A6AE39E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9662-224D-4C49-A83F-D63F010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AC42-B879-489A-A410-3167304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1E1E-4218-4FD7-939A-8125AB9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F58-53A4-494A-B7C3-5FDA9284D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EAB-D22D-4F95-8B7F-DE7F7685BF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временный урок в соответствии с новым ФГОС третьего поколения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первый план выходит реализация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ринципа деятельности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, причём самостоятельной деятельности учащихся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флексия – это самоанализ, осмысление, оценка предпосылок, условий и течения собственной деятельности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Органы растен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идит-зелен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Летит-пожелт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Упадёт-почернеет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Семейства растени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грядке за амбаром разросся стебель шаром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Цветок – напр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лод – оп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поле всё засеяно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____________________растений начинается с поступления раствора минеральных солей в клетки _______________ волосков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2.Азотные соли необходимы для _______________, фосфорные и калийные усиливают _______________ и 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Развитие придаточных корней можно усилить таким агротехническим приёмом, как __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Важной функцией корня является его участие в _________________ размножении.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826920" y="907920"/>
            <a:ext cx="749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считайте, сколько дней бактерии могут сохранять свою жизнь в виде спор, если известно, что споры холеры выдерживают неблагоприятные условия 2 дня; чумы в 4раза, тифа в 30 раз, туберкулёза в 150 , сибирской язвы в 1826 раз дольше, чем хол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цепция современного уро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поло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ценностей и миссия педаго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бования к современному уро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эффективности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ходы к организации современного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труктор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оценки достижения планируемых результатов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О»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вводное занятие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образное представление об изучаемой теме – осмысление практической и социальной значимости – рефлекс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изучение и первичное    закрепление новых   знаний   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субъектного опыта учащихся – организация восприятия – организация осмысления – первичная проверка понимания – организация первичного закрепления – анализ – рефлекс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закрепление    знаний и способов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ведущих знаний и способов действий – конструирование образца применения знаний в стандартной и изменённой ситуациях – самостоятельное применение знаний – контроль и самоконтроль – коррекция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мплексное    применение   знаний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комплекса знаний и способов деятельности – самостоятельное применение знаний в сходной и новой ситуациях – самоконтроль и контроль – коррекция – рефлексия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обобщение и систематизация знаний и способов 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нализ содержания учебного материала – выделение главного  -обобщение и систематизация – установление внутрипредметных и межпредметных  связей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проверка и оценка знаний  и способов деятельности  уч-ся)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самостоятельное выполнение заданий – самоконтроль – контроль – анализ,  оценка – коррекция – 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ru-RU" sz="3200" spc="-1" strike="noStrike" baseline="30000">
                <a:solidFill>
                  <a:srgbClr val="e5e5ff"/>
                </a:solidFill>
                <a:latin typeface="Garamond"/>
              </a:rPr>
              <a:t>1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ррекция знаний и способов   деятельности учащихся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Организационный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 проверки домашнего задани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Этап актуализации субъектного опыт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Этап изучения новых знаний и способов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5.Этап первичной проверки понима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6.Этап закрепл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7.Этап примен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8.Этап обобщения и систематиза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9.Этап контроля и самоконтрол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0.Этап коррек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1.Этап информации о домашнем задан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2.Этап подведения итогов учебного занят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хотнице – сове средь ночи тёмно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жаль певца любви и неги томно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соловей съедает светляка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посмотрев на прелесть огонька;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ветляк же – ночи светоч оживлённый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ползая вверх, цветок съедает сонный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6:28:52Z</dcterms:created>
  <dc:creator>Макс</dc:creator>
  <dc:description/>
  <dc:language>en-US</dc:language>
  <cp:lastModifiedBy>max</cp:lastModifiedBy>
  <dcterms:modified xsi:type="dcterms:W3CDTF">2024-12-17T14:50:36Z</dcterms:modified>
  <cp:revision>21</cp:revision>
  <dc:subject/>
  <dc:title>           1. Растения являются основными производителями (продуцентами) органического вещества.  2. Растения характеризуются ограниченным ростом.  3. Все растения по способу питания являются автотрофными организмами.</dc:title>
</cp:coreProperties>
</file>